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2C7-C3F6-4DC1-9EED-B29800F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1C7-D409-4A99-B75A-91004FA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E38-3D5C-4288-B6AE-475F0C6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8D6-19DC-429C-9D23-99E45E13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CA1-881C-4AA6-A54F-AAABA811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444-635E-42DA-801A-E5682D0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049-543C-433A-8032-16D4EEE2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CD9-C2C0-4632-973C-4B1F9A8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557-7D0B-47A2-8F3F-CABD4E5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1DD-AF2A-4F77-BFE3-FCC5564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5D7-0AC0-4720-8516-6F46DBA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5C3-8ADE-4E87-9607-AB57885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EE4B-927C-4CAA-B3D2-49F586E9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104760" y="114480"/>
            <a:ext cx="2028960" cy="232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0" y="3505320"/>
            <a:ext cx="2987640" cy="22885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ma AE acceptance test operations will take place 0-1200 AGL in Class G Airspace and within overlying Burbank Class E Airspace.  Overlying Class E Airspace begins at 700 feet A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85640" y="295200"/>
            <a:ext cx="8172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232440" y="3636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114560" y="790560"/>
            <a:ext cx="6914880" cy="5276880"/>
          </a:xfrm>
          <a:prstGeom prst="rect">
            <a:avLst/>
          </a:prstGeom>
          <a:ln w="0">
            <a:noFill/>
          </a:ln>
        </p:spPr>
      </p:pic>
      <p:sp>
        <p:nvSpPr>
          <p:cNvPr id="47" name="Oval 9"/>
          <p:cNvSpPr/>
          <p:nvPr/>
        </p:nvSpPr>
        <p:spPr>
          <a:xfrm rot="20529000">
            <a:off x="3352320" y="1904760"/>
            <a:ext cx="838440" cy="271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594360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50" name="Rectangle 13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4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696120" y="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rennan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306160" y="1126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0920" cy="501984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5638680" y="3581280"/>
            <a:ext cx="457200" cy="149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 rot="3415200">
            <a:off x="4482720" y="2450880"/>
            <a:ext cx="457200" cy="14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 rot="19999200">
            <a:off x="2936520" y="2141280"/>
            <a:ext cx="457200" cy="1650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221840" y="33210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879440" y="20574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98760" y="4952880"/>
            <a:ext cx="1829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3962520" y="21337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7010280" y="4191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65" name="Rectangle 15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6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565600" y="106668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pper_Waste"/>
          <p:cNvPicPr/>
          <p:nvPr/>
        </p:nvPicPr>
        <p:blipFill>
          <a:blip r:embed="rId1"/>
          <a:stretch/>
        </p:blipFill>
        <p:spPr>
          <a:xfrm>
            <a:off x="0" y="0"/>
            <a:ext cx="5086440" cy="4314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ower_Waste"/>
          <p:cNvPicPr/>
          <p:nvPr/>
        </p:nvPicPr>
        <p:blipFill>
          <a:blip r:embed="rId2"/>
          <a:stretch/>
        </p:blipFill>
        <p:spPr>
          <a:xfrm>
            <a:off x="4057560" y="3228840"/>
            <a:ext cx="5086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16:10Z</dcterms:created>
  <dc:creator>RyanRA</dc:creator>
  <dc:description/>
  <dc:language>en-US</dc:language>
  <cp:lastModifiedBy>PorterfP</cp:lastModifiedBy>
  <dcterms:modified xsi:type="dcterms:W3CDTF">2008-09-02T17:57:02Z</dcterms:modified>
  <cp:revision>15</cp:revision>
  <dc:subject/>
  <dc:title>Slide 1</dc:title>
</cp:coreProperties>
</file>